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0F4E-2571-49FB-A60E-147A7C2AE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9FEA-B3CD-4795-BE8C-C6B0DA1E2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28BC-6ACE-4F21-B3D3-3E8261178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0A82-B648-4F62-9BD0-85E8FE990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BE60-364D-4712-9433-AB11B6B031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8DE0-591F-482D-8E46-F25EC1CF54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9A74-A4AF-4C04-A1AF-4DE995F167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5A74-14F1-40E9-8ED8-C8A93BD7D2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2637-E651-4455-BE4F-7F987983DE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EBF4-56F4-4864-A3B7-4D82954930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4205-0E25-4BC1-96A8-FF8DED513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B328-8366-498B-A241-C3EAA1165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3F2A-7A6B-444A-8938-6F8437D16E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6972-8FF3-48E9-9AA0-D0F90FDABF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449F-AC2E-4089-B316-EA2DDC459A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27AF-3E60-4AB1-A484-4776CCA5CD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BC48-1A4A-4338-A579-C23FD5EA97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CA0-8B0B-46C4-8C3F-07D10DA372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8F6-863C-4825-A2D3-10400B6F4D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639-1C94-47DE-8B6E-AC6E072F9F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FBC-E349-4E23-A246-F8E6CBA6BC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9CD-26A0-4A90-BBB4-AC0FDCCF2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4888-C8EA-4CB6-954F-1FFC1B3857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7FD-97A8-42FE-B8F9-665379311D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68D-F25E-4D25-89F3-7C1252AB44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8BC-D9A7-47B6-92AA-6332D31419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AB4-AB59-4A28-8703-8D0B89DFC7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123-6EFD-4B97-9651-2B23236D9E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38A-1DAF-43EB-87D5-928128FAFD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F00-47C7-40DF-BF21-60078D1B2E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8F3CC-B50C-43D5-8C3A-B06B7506B0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486B2-FA45-4771-A71E-827FD468A0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CF125-B8D3-4B34-AB89-4BEFE703E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7D7E-4938-40A5-87CC-24DD124E70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E2A62-4EFE-4D83-AA48-A698E8D9BA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CD82D-B87C-438B-9FD6-E88736B8D2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046D1-584F-448A-A1C5-7443FC480C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A5DEA-AB19-4DAC-80A8-62CC9E8416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6831B-2FA3-4A81-B458-7A1AAEE547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6D282-B54A-49DC-B4A7-346D918CA4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B7651-33B0-4EBA-97BD-85A5925519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1C63C-D2C9-45ED-94C6-0CF65CFC96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51FCB-3B11-479E-AA9E-9AB7D3FC8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3F62-B980-4CB1-B0AB-23E61781D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B6BE-7989-45B2-833E-58A311B02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4E3A-3150-4AD0-A164-CBAFEC6C0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F156-1CAC-4041-92AB-0EF09EEF4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7E21-7438-46A4-8BE1-A204AAE99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21A0-826E-4528-8276-A65A796E506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6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6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6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152280" y="6579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4F51-D824-4709-BB51-E571F2E4991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899A-B6CE-49E2-8679-1D2A9DB5DBA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Num" idx="4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914A-67C8-4E9B-89E0-D168F1DF690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浙江省计算机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DB0B-87BD-43AE-96FF-3E6AE5CBD9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16360" y="191628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63504" dir="3183908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谢谢！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63504" dir="3183908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8A7CA-288F-4178-97AC-A03150F629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1" lang="en-US" sz="28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2420-3B44-4B40-8CD4-CBA8ABACE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时间安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822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：理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6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上午）；上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6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7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监考班车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</a:t>
            </a:r>
            <a:r>
              <a:rPr b="0" lang="en-US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翠苑新村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：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</a:rPr>
              <a:t>26</a:t>
            </a:r>
            <a:r>
              <a:rPr b="1" lang="zh-CN" sz="18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1800" spc="-1" strike="noStrike">
                <a:solidFill>
                  <a:srgbClr val="6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600000"/>
                </a:solidFill>
                <a:latin typeface="Arial"/>
              </a:rPr>
              <a:t>（上机考）</a:t>
            </a:r>
            <a:endParaRPr b="0" lang="en-US" sz="1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理论考领卷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布置考场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前监考教师进入考场布置考场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铃声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生入场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开始考试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试结束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二级）；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三级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统一以铃声为准，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铃声时对表，按照时间进度安排工作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4F2B-F09F-44A8-AA4E-FAB007CFFF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领卷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:1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，开始领卷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地点：主考办公室：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A2-24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（教师休息室）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每个考场的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黑体"/>
              </a:rPr>
              <a:t>两位监考人员到齐后同时领取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到达报到地点，并签到才算到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个工作组，到主考办公室下设的考场所对应的工作组领卷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试题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题纸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务袋（内有：监考证、考场号、考生名单、考场记录单、胶水、小刀等）；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回卷：试卷回到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A2-24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领卷的工作组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</a:rPr>
              <a:t>检查袋封上的考场号与自己的考场是否相符，检查袋口是否完好，并在袋上签名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91B1-78BB-41FD-9019-3260E9D2DF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考场布置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8:2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进入考场开始布置考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考场门口贴好考场号，插在教室门口的塑料牌中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检查是否彻底清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场板书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座位安排表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场规则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时间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科目。 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根据座位安排表在考试座位上方贴上座位号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8DFD-05DF-4E38-B899-D8DD8EABAF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监考要求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生入场检查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分铃响之后放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检查核对证件再入场（证件不全不得入场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把带入考场的无关物品（包、书本、纸张、计算器、手机等）放到讲台上后再入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号是否与座位号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与学生证或身份证是否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入座后，考生在考生名册备注栏中签名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发现问题及时纠正或报告主考 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试卷当众启封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宣布考场纪律及考试注意事项 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全文宣读考生须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C7D9-E300-44CF-B522-BCF435049F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注意事项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装订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经工作组或督查组当面清点后方能开始装订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装订要求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答题纸按序号（包括缺考）从小到大排列，理齐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沿装订线下钉，等距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颗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以考生信息不外漏为标准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证件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没有证件不允许进入考场，证件忘带的及时要求学生委托他人在考试结束前送到考场，否则考试无效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结束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分钟提醒考生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上机考：学生提出的问题应当众回答，不要动手帮学生改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0F2D-9DFE-43F4-A51A-99BA75BA1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偶发事件处理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作弊处理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监考教师填写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考生情况记录表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处理告知书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，对于违规的关键事实详细描述，两位监考教师签字、学生签字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他偶发事件通过巡考、考务人员等通知主考办公室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9ED5-7E16-4E08-B62A-80614CFBF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特别提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按时报到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10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认真阅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监考人员须知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先清理考场，检查抽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严格学生进场检查程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要求考场名单备注中学生本人签名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第一次打铃 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统一时间调整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当众全文宣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考场规则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，试卷当众启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装订前，答题卡务必经工作组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/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督查组当面清点后正确封装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一前一后、一站一坐、一动一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偶发事件及时与巡视员及主考办联系，规范处理程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315A-9F78-4950-9B88-D1E10BBC4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4-04-03T00:47:38Z</dcterms:modified>
  <cp:revision>1503</cp:revision>
  <dc:subject/>
  <dc:title>jwc</dc:title>
</cp:coreProperties>
</file>