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EE85-3251-4A97-87C6-413AF0159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22DF-41B9-43A7-8CD5-AF2642AD6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F9B0-5227-4350-8809-E3448182D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EAB8C-B1D3-49F0-9E88-E2B18D76D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887DC-A98D-410A-B64B-7D59D41745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10EF7-BCD1-4D0B-BAFC-8A8E46F2E8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44A23-E20A-4157-90F6-38B4EF6D06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28592-A444-4BF6-A8EA-F11D64CAF6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85AA5-2962-489C-8859-909D74D37D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535F-6008-40D8-BA96-74F77EFA37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A6366-6436-47EC-92AE-28EFF6B828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BD808-B554-4709-98C2-86D6BBDDF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6908B-4612-4E35-A895-84D4B0AF07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C342A-D6CF-4E2D-8EB8-C51D60DF02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048FC-96EB-4F7C-858F-841850D972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B998A-3EE3-4A19-990A-6CCB7587C3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420A9-A6A4-4F50-B13D-89FDED276FE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FC7E-3E87-4D7A-9D8E-BEA075EE2B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0CF-C051-4093-B562-7BAF894376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7F4-7097-4D42-AB27-7E79754D55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97F4-D69B-439F-9C5D-3215BF9107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A393-168D-4461-B2B8-CC69AAB558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BF31-4044-4E22-B3A2-75A62E89DD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3944-F142-4090-AED0-CB5C7C9B7D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CB5A-4383-42D0-9F05-230B14B5E9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B059-D890-416E-94A1-8959979CB5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4361-A2ED-4667-A9D7-0543A19F81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14B-0307-4761-A8D0-FAC4288A6A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DD32-5691-488C-9FFD-B40AFA4160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E897-5DF8-491E-AA36-9698613D55E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5042B-3176-4709-B7AF-0C2ED7B1DD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AF0F1-308D-4418-AD98-324C814D0C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B133D-CA62-4C2A-8DC2-8F07F3125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B418-B49C-4A8B-9743-C380B94EB4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27C74-36AC-490A-97EF-2319AF52D0E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7670C-0A42-4EAD-97DA-5D3FA9DC08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CEDFC-8BB2-48D2-9AE2-8E9ED279F3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2FE01-EE3B-4FD6-A14D-25C30472AD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B90BD-57D5-4D7F-AA1C-374CFB17CD3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D0D6C-D1C3-4528-8DD9-19DA8DC080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46DEF-30BF-49B9-802F-FA4813589B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966E0-CB56-4A28-B984-F58FF8B1154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6FC0A-B33B-4E7F-A866-202ACBDFA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C612-2CAD-447A-AA0B-2D8673338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C3A8-D9FD-4A88-BD9A-8D9B853A1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B134F-977E-459B-B8CB-4B8AFDF53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1BDE-9D9B-463A-B8EE-EB8B52599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9DA7-2E84-4E01-BEC9-1B71985AE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03EC-7FB3-451E-BD12-33F06A8F092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00400" y="3733920"/>
            <a:ext cx="59436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3733920"/>
            <a:ext cx="6019920" cy="25704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6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6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6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文鼎CS中黑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152280" y="65797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1CEC-BF92-457D-BC2F-C460F00AA4F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文鼎CS中黑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EB4D-F5A4-4227-87AB-9E98B3B01B9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6705720"/>
            <a:ext cx="4800600" cy="22860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Num" idx="4"/>
          </p:nvPr>
        </p:nvSpPr>
        <p:spPr>
          <a:xfrm>
            <a:off x="15228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A0E2-BA8F-42B5-9F26-57016DA689B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4191120"/>
            <a:ext cx="6019920" cy="257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700360" y="2349360"/>
            <a:ext cx="6400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浙江省计算机等级考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黑体"/>
              </a:rPr>
              <a:t>监考培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371952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6600"/>
                </a:solidFill>
                <a:latin typeface="宋体"/>
                <a:ea typeface="黑体"/>
              </a:rPr>
              <a:t>浙江科技学院 教务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7EC55-B46B-40BE-9DFD-1D69CAB152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916360" y="1916280"/>
            <a:ext cx="3313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effectLst>
                  <a:outerShdw dist="63504" dir="3183908" blurRad="0" rotWithShape="0">
                    <a:srgbClr val="808080">
                      <a:alpha val="50000"/>
                    </a:srgbClr>
                  </a:outerShdw>
                </a:effectLst>
                <a:latin typeface="黑体"/>
              </a:rPr>
              <a:t>谢谢！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solidFill>
                <a:srgbClr val="ff6600"/>
              </a:solidFill>
              <a:effectLst>
                <a:outerShdw dist="63504" dir="3183908" blurRad="0" rotWithShape="0">
                  <a:srgbClr val="808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ECD5D-A583-4F9B-AD64-E698632A98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9930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培训内容</a:t>
            </a:r>
            <a:endParaRPr b="1" lang="en-US" sz="28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65" name=""/>
          <p:cNvSpPr/>
          <p:nvPr/>
        </p:nvSpPr>
        <p:spPr>
          <a:xfrm>
            <a:off x="399960" y="115884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一、时间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5"/>
          <p:cNvSpPr/>
          <p:nvPr/>
        </p:nvSpPr>
        <p:spPr>
          <a:xfrm>
            <a:off x="324000" y="184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9960" y="1951200"/>
            <a:ext cx="84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二、领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5"/>
          <p:cNvSpPr/>
          <p:nvPr/>
        </p:nvSpPr>
        <p:spPr>
          <a:xfrm>
            <a:off x="324000" y="2637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960" y="396720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四、监考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324000" y="465300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960" y="490212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五、注意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5"/>
          <p:cNvSpPr/>
          <p:nvPr/>
        </p:nvSpPr>
        <p:spPr>
          <a:xfrm>
            <a:off x="324000" y="558792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960" y="583884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六、偶发事件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5"/>
          <p:cNvSpPr/>
          <p:nvPr/>
        </p:nvSpPr>
        <p:spPr>
          <a:xfrm>
            <a:off x="324000" y="652464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8520" y="2924280"/>
            <a:ext cx="76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三、考场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322200" y="3610080"/>
            <a:ext cx="835344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B9A2A-BD6A-40D9-9C01-4777F76BEE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时间安排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981000"/>
            <a:ext cx="838224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考试时间：理论考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11.19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上午）；上机考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11.19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全天）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监考班车时间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学院路</a:t>
            </a:r>
            <a:r>
              <a:rPr b="0" lang="en-US" sz="24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小和山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翠苑新村</a:t>
            </a:r>
            <a:r>
              <a:rPr b="0" lang="zh-CN" sz="24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小和山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小和山</a:t>
            </a:r>
            <a:r>
              <a:rPr b="0" lang="zh-CN" sz="2400" spc="-1" strike="noStrike">
                <a:solidFill>
                  <a:srgbClr val="6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学院路：中午不安排班车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理论考领卷时间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布置考场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前监考教师进入考场布置考场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考试铃声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考生入场铃声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开始考试铃声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考试结束铃声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（二级）；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00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（三级）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考试时间统一以铃声为准，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45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铃声时对表，按照时间进度安排工作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4F95F-7140-497F-B2E1-52B4ED054A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领卷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8:1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报到，开始领卷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报到地点：主考办公室：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A2-24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（教师休息室）。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每个考场的</a:t>
            </a:r>
            <a:r>
              <a:rPr b="1" lang="zh-CN" sz="1800" spc="-1" strike="noStrike" u="sng">
                <a:solidFill>
                  <a:srgbClr val="ff0000"/>
                </a:solidFill>
                <a:uFillTx/>
                <a:latin typeface="黑体"/>
              </a:rPr>
              <a:t>两位监考人员到齐后同时领取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到达报到地点，并签到才算到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个工作组，到主考办公室下设的考场所对应的工作组领卷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试题册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答题纸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考务袋（内有：监考证、考场号、考生名单、考场记录单、胶水、小刀等）；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回卷：试卷回到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A2-240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领卷的工作组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</a:rPr>
              <a:t>检查袋封上的考场号与自己的考场是否相符，检查袋口是否完好，并在袋上签名。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19C9D-14A2-4CDA-8282-035377CEF9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考场布置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8:2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进入考场开始布置考场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在考场门口贴好考场号，插在教室门口的塑料牌中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检查是否彻底清场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考场板书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座位安排表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考场规则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考试时间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0000"/>
                </a:solidFill>
                <a:latin typeface="Arial"/>
              </a:rPr>
              <a:t>考试科目。 </a:t>
            </a:r>
            <a:endParaRPr b="0" lang="en-US" sz="28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根据座位安排表在考试座位上方贴上座位号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C0F04-7744-417F-B655-B07CCB7416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监考要求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考生入场检查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45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分铃响之后放行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先检查核对证件再入场（证件不全不得入场）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先把带入考场的无关物品（包、书本、纸张、计算器、手机等）放到讲台上后再入座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检查准考证号是否与座位号相符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检查准考证与学生证或身份证是否相符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入座后，考生在考生名册备注栏中签名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发现问题及时纠正或报告主考 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试卷当众启封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宣布考场纪律及考试注意事项 （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</a:rPr>
              <a:t>全文宣读考生须知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92B74-C65A-431A-B566-8798EB2E09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注意事项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关于装订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必须经工作组或督查组当面清点后方能开始装订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装订要求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答题纸按序号（包括缺考）从小到大排列，理齐。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沿装订线下钉，等距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～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颗钉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以考生信息不外漏为标准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关于证件：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必须在考生进场的时候检验证件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有效考试证件：准考证、身份证（或学生证）两证齐全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没有证件不允许进入考场，证件忘带的及时要求学生委托他人在考试结束前送到考场，否则考试无效。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考试结束前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分钟提醒考生时间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上机考：学生提出的问题应当众回答，不要动手帮学生改</a:t>
            </a:r>
            <a:endParaRPr b="1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6AE94-141B-4162-A94B-B8644F3E23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偶发事件处理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作弊处理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收集违纪材料及证据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学生本人在违纪材料上签字，非纸质材料先行收缴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立即通过巡考、考务人员等联系主考办公室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8664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监考教师填写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违规考生情况记录表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违规处理告知书</a:t>
            </a:r>
            <a:r>
              <a:rPr b="0" lang="en-US" sz="2400" spc="-1" strike="noStrike">
                <a:solidFill>
                  <a:srgbClr val="6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600000"/>
                </a:solidFill>
                <a:latin typeface="Arial"/>
              </a:rPr>
              <a:t>，对于违规的关键事实详细描述，两位监考教师签字、学生签字。</a:t>
            </a:r>
            <a:endParaRPr b="0" lang="en-US" sz="2400" spc="-1" strike="noStrike">
              <a:solidFill>
                <a:srgbClr val="6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其他偶发事件通过巡考、考务人员等通知主考办公室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73FEA-4884-4057-B85B-713602048E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77058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文鼎CS中黑"/>
              </a:rPr>
              <a:t>特别提醒</a:t>
            </a:r>
            <a:endParaRPr b="1" lang="en-US" sz="2200" spc="-1" strike="noStrike">
              <a:solidFill>
                <a:srgbClr val="ffffff"/>
              </a:solidFill>
              <a:latin typeface="文鼎CS中黑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按时报到（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10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认真阅读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监考人员须知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先清理考场，检查抽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严格学生进场检查程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要求考场名单备注中学生本人签名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第一次打铃 （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8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：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45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）统一时间调整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当众全文宣读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考场规则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，试卷当众启封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装订前，答题卡务必经工作组</a:t>
            </a:r>
            <a:r>
              <a:rPr b="0" lang="en-US" sz="2400" spc="-1" strike="noStrike">
                <a:solidFill>
                  <a:srgbClr val="600000"/>
                </a:solidFill>
                <a:latin typeface="黑体"/>
              </a:rPr>
              <a:t>/</a:t>
            </a: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督查组当面清点后正确封装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一前一后、一站一坐、一动一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80880" indent="-380880">
              <a:spcBef>
                <a:spcPts val="601"/>
              </a:spcBef>
              <a:buClr>
                <a:srgbClr val="6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00000"/>
                </a:solidFill>
                <a:latin typeface="黑体"/>
              </a:rPr>
              <a:t>偶发事件及时与巡视员及主考办联系，规范处理程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3B32A-CC03-4F2E-9483-46050C05F8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1:05:13Z</dcterms:created>
  <dc:creator>LCS</dc:creator>
  <dc:description/>
  <dc:language>en-US</dc:language>
  <cp:lastModifiedBy>微软用户</cp:lastModifiedBy>
  <dcterms:modified xsi:type="dcterms:W3CDTF">2016-10-20T01:31:18Z</dcterms:modified>
  <cp:revision>1507</cp:revision>
  <dc:subject/>
  <dc:title>jwc</dc:title>
</cp:coreProperties>
</file>