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A510-9B3B-4821-83F2-508B4E1C3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DC10-132F-470B-AD30-13F2554CC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0E07-31E1-4E36-AEEA-ABA7C86BD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E6CD-EC83-4CEA-9838-9613BCD82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698B-CEA6-4211-9D6A-2BF9B7B2F3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97D3-C163-4389-9C5C-FAAF40BB79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804F-7266-4982-93FE-69A8E7D71C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6AA3-824F-46F0-9AC7-4D41F139C7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547D-772F-4DCD-8C65-4CF17B9710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8E7A-7DB4-49CD-AD41-D5F46B5639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652B-A308-496D-839D-49FD5A5968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FEDB-4436-492A-883E-5AFF858C7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BA49-BBD1-4E90-9E0E-7E652C977A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437F-19E9-45E3-8023-865E08A9F3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7ADC-9351-4536-BDB4-44A4C85CF1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5EC6-AC1C-4DBA-8886-1DEEB40E89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C4E7-7395-44FD-B24B-2A00F2B7AA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AFF-8913-4309-B325-FA0FE21855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F06-C2AA-4162-BB86-6CE77DE9C0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933-7BF2-4BAC-9BF8-ECFD8F2C53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03E-E586-43B4-97C2-EE751B68FE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282-89F8-4A5D-8906-FE547957D7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07D3-58CB-4A1A-9084-F2342CD220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8C9-8525-4D8F-8456-77AB9586A4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3C2-434B-43B6-8CFF-99CB109C75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83C-8286-4E02-917F-7286B33440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438-2401-4BBF-8D29-3C01406E73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92A-1370-4252-BDE1-4047216304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A05-5A4E-4048-8008-397B232092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BDA-C46C-4B24-B5F6-7774D1C207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5B7A3-A075-42ED-835B-02B584039E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4E175-FFA3-4DB2-8CEA-341FF89042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13803-8160-4005-AD6F-4B8F28C36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8E58-4FF7-4A50-9639-6F404578AD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DAD1C-F312-44B0-81D8-9EE3432A94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3D25D-A044-474E-BD7B-4107429A40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CD6A6-668E-4BD1-AC6F-6201B1B24A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0BF91-FADF-48B8-BC3A-9A5F8BD676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FD8B3-857B-4838-9E1F-643B39F75F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FF634-17E3-48DE-A8C8-DA1F585FB6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4FE2E-094A-4B75-8EB5-EFCCD86CD5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D42DC-70DB-4FA4-B14C-0A373C7B69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E0596-B731-43B9-9ECA-30708C5D2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9FF1-822E-4CF5-B332-B90E6D35C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5F2E-8F0D-45A5-8E5B-56B6CB17F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A922-90AC-4DF9-B659-DC4D00616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250E-4FE7-4C32-8A9D-945D67AE7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0339-9F4B-4C83-80B3-48A9D4392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6F7F-6B04-4B88-8909-04CEC58E878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6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6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6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152280" y="6579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74E5-5187-410D-B660-B5A40F3C27F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3240-3182-4628-95F0-EA51EC3E5F8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Num" idx="4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334E-94FA-4188-8552-D049E54039B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浙江省计算机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72AE-9F1C-405A-81AF-1F4F9A8023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16360" y="1916280"/>
            <a:ext cx="33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63504" dir="3183908" blurRad="0" rotWithShape="0">
                    <a:srgbClr val="808080">
                      <a:alpha val="50000"/>
                    </a:srgbClr>
                  </a:outerShdw>
                </a:effectLst>
                <a:latin typeface="黑体"/>
              </a:rPr>
              <a:t>谢谢！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63504" dir="3183908" blurRad="0" rotWithShape="0">
                  <a:srgbClr val="808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58FB6-6DFE-4033-A0AC-C812D08DBD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1" lang="en-US" sz="28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65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A5EB0-4BBD-405A-B10E-E535F77558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时间安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822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时间：理论考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上午）；上机考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.26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监考班车时间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</a:t>
            </a:r>
            <a:r>
              <a:rPr b="0" lang="en-US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            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安吉 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翠苑新村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         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安吉   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学院路：</a:t>
            </a: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8:40(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上机考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安吉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： </a:t>
            </a: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2: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0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安吉：</a:t>
            </a: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600000"/>
                </a:solidFill>
                <a:latin typeface="Arial"/>
              </a:rPr>
              <a:t>号：</a:t>
            </a:r>
            <a:r>
              <a:rPr b="1" lang="en-US" sz="2400" spc="-1" strike="noStrike">
                <a:solidFill>
                  <a:srgbClr val="600000"/>
                </a:solidFill>
                <a:latin typeface="Arial"/>
              </a:rPr>
              <a:t>6:30</a:t>
            </a:r>
            <a:r>
              <a:rPr b="1" lang="zh-CN" sz="20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6:5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16:4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上机考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理论考领卷时间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安吉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:2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布置考场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前监考教师进入考场布置考场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铃声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考生入场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开始考试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考试结束铃声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二级）；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00</a:t>
            </a:r>
            <a:r>
              <a:rPr b="0" lang="zh-CN" sz="2000" spc="-1" strike="noStrike">
                <a:solidFill>
                  <a:srgbClr val="600000"/>
                </a:solidFill>
                <a:latin typeface="Arial"/>
              </a:rPr>
              <a:t>（三级）</a:t>
            </a:r>
            <a:endParaRPr b="0" lang="en-US" sz="20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考试时间统一以铃声为准，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：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4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铃声时对表，按照时间进度安排工作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1CDD-7391-4DE5-BEE7-4F81E619AF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领卷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36748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:1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，开始领卷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地点：主考办公室：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A2-24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（教师休息室）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每个考场的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黑体"/>
              </a:rPr>
              <a:t>两位监考人员到齐后同时领取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到达报到地点，并签到才算到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个工作组，到主考办公室下设的考场所对应的工作组领卷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试题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题纸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务袋（内有：监考证、考场号、考生名单、考场记录单、胶水、小刀等）；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回卷：试卷回到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A2-24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（安吉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0#101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阶梯教室）领卷的工作组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</a:rPr>
              <a:t>检查袋封上的考场号与自己的考场是否相符，检查袋口是否完好，并在袋上签名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B5F4-7D8C-42ED-B9E3-FAE24053FD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考场布置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8:2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进入考场开始布置考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考场门口贴好考场号，插在教室门口的塑料牌中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检查是否彻底清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场板书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座位安排表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场规则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时间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科目。 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根据座位安排表在考试座位上方贴上座位号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A86B-1762-4F52-BC60-FB9CC99555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监考要求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生入场检查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分铃响之后放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检查核对证件再入场（证件不全不得入场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把带入考场的无关物品（包、书本、纸张、计算器、手机等）放到讲台上后再入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号是否与座位号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与学生证或身份证是否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入座后，考生在考生名册备注栏中签名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发现问题及时纠正或报告主考 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试卷当众启封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宣布考场纪律及考试注意事项 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全文宣读考生须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7C39-27A5-4CCE-8601-65A8A9849B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注意事项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08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装订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经工作组或督查组当面清点后方能开始装订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装订要求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答题纸按序号（包括缺考）从小到大排列，理齐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沿装订线下钉，等距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颗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以考生信息不外漏为标准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证件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在考生进场的时候检验证件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有效考试证件：准考证、身份证（或学生证）两证齐全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没有证件不允许进入考场，证件忘带的及时要求学生委托他人在考试结束前送到考场，否则考试无效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结束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分钟提醒考生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上机考：学生提出的问题应当众回答，不要动手帮学生改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D0B8C-6429-4A13-AA20-42BFCEFBC4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偶发事件处理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作弊处理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监考教师填写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考生情况记录表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处理告知书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，对于违规的关键事实详细描述，两位监考教师签字、学生签字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他偶发事件通过巡考、考务人员等通知主考办公室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C797-D91F-4213-A5A2-D7113966E0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特别提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按时报到（小和山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10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；安吉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:20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认真阅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监考人员须知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先清理考场，检查抽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严格学生进场检查程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要求考场名单备注中学生本人签名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第一次打铃 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统一时间调整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当众全文宣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考场规则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，试卷当众启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装订前，答题卡务必经工作组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/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督查组当面清点后正确封装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一前一后、一站一坐、一动一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偶发事件及时与巡视员及主考办联系，规范处理程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DBC3-3239-4C5D-AD44-72CBC599EE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5-04-13T01:20:36Z</dcterms:modified>
  <cp:revision>1510</cp:revision>
  <dc:subject/>
  <dc:title>jwc</dc:title>
</cp:coreProperties>
</file>